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A650-6223-4639-AB7F-1B3BDFA9B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7027-9269-4C33-8F8C-92E33313F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EF3E-B7CA-4263-91B1-EBB1BF3AC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7004-034F-40F3-9FF8-151CF752A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49CCE-17E7-4E66-B2F2-C4EF9BDBB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C7010-03F1-4EEA-B5EC-176E9FC3D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6FF2F-AF4D-4E33-B3DA-10DE6F23C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4CD67-6747-4945-969A-37D25D488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3EC70-2A6C-450F-A9B9-2F97292EC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21C03-A4A5-4930-BD1C-0FDD10E7C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BD4A2-D88A-45BA-B291-0A268A359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7EC2-E95C-4842-9C96-E13511E31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B27F6-4869-422D-9721-71E395A1E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6EA40-CC79-42F6-B1DA-36C837DDA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B496C-8F3B-4ABF-8C28-6117E0E26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EC828-F78A-46DB-8007-F393BD2A0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72A50-23E5-4948-9745-5B8AFA3FE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4A6F7B-0A7C-4639-9852-CE749D899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451CF9-91B4-4717-A261-84F4F563D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B9C999-B25F-4B8D-944F-60D64A33D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758C88-A5E4-47B2-AD51-35B07689C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9A95F0-E50C-499A-B94C-1F14A9C3D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874D-6D9B-4713-A954-C5D1034A4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E051BD-D6C3-4371-B559-EFBE3D640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B5199D-DAA8-4412-B6A8-AD4F22D0C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941E3A-280C-4763-B0BF-44EC1CA19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DB6338-7FBE-4471-8129-933587A9A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24E132-7394-4552-8EAD-BB461B05A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D44918-D139-41AE-8317-5C11857A0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126089-0EB7-44D1-AE39-A0445CC8A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5B6A6D-AD9D-4A62-89C3-AABA65467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9D87A5-6F52-4373-BCCE-99A8F5B28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12CA4E-B6E7-441B-B23D-EBB957D07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8277-8CD4-46DD-8566-A58B8636C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ABE606-CF3F-4C46-AA7A-BB446814F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E93466-7F98-4726-90C6-A5401C734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5004B2-45D9-4F62-84C5-30934C366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E48F6D-826A-4EF2-A2F7-806AE66E9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827E61-88F1-4996-8F23-BF5E0CB08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CDF59A-A7E9-46AE-94DE-96E5369AA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B5D15F-2963-4DA8-BAA3-DEC702159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803F09-A8FC-4508-866E-0BA3F7383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B77A4E-DB1A-4D9D-A9F2-39746C6FE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F304-6E5A-4D6C-8879-CB2D4C2F0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E195-998C-48FF-B5AD-A0EACB022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CE25-2268-4794-9C02-9BA1C39BA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A94C-7430-45A9-AFB7-45C6C12FC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32B4-FE68-4CE7-8825-A662C68FA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a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23350-E988-4A03-9716-6FBA5CCED9B9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a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E2C47-58F4-4199-BA6B-4C780172BC8C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a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26371-133D-4D17-B3F5-40120F6553ED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a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54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57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59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0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2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8C2E8-9F43-4D55-948D-25AEE6ADA94E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Title 1" descr=""/>
          <p:cNvPicPr/>
          <p:nvPr/>
        </p:nvPicPr>
        <p:blipFill>
          <a:blip r:embed="rId1"/>
          <a:stretch/>
        </p:blipFill>
        <p:spPr>
          <a:xfrm>
            <a:off x="201600" y="-60480"/>
            <a:ext cx="8570880" cy="326736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609480" y="3048120"/>
            <a:ext cx="77788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Dr. Beverly J. Buckles, DSW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Dean, School of Behavioral Health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Chair and Professor, Department of Social Work and Social Ecology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Co-Chair, International Behavioral Health Trauma Team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Loma Linda University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Dr. Kimberly R. Freeman, PhD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Associate Executive Chair  and Associate Professor, Department of Social Work and Social Ecology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Member, International Behavioral Health Trauma Team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Loma Linda University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dentifique a los voluntarios por adelantado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¿A quién debería reclutar?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Constantia"/>
              </a:rPr>
              <a:t>Idealmente a individuos con experiencia trabajando con niños de diferentes edade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Constantia"/>
              </a:rPr>
              <a:t>Voluntarios adultos masculinos que puedan asistir con asuntos de seguridad además de ayudar con los jovencitos mayore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Personas dignas de confianza y emocionalmente estable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alibri"/>
              </a:rPr>
              <a:t>Voluntari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Title 1" descr=""/>
          <p:cNvPicPr/>
          <p:nvPr/>
        </p:nvPicPr>
        <p:blipFill>
          <a:blip r:embed="rId1"/>
          <a:stretch/>
        </p:blipFill>
        <p:spPr>
          <a:xfrm>
            <a:off x="73080" y="701640"/>
            <a:ext cx="8699400" cy="1150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5" name=""/>
          <p:cNvGraphicFramePr/>
          <p:nvPr/>
        </p:nvGraphicFramePr>
        <p:xfrm>
          <a:off x="609480" y="1981080"/>
          <a:ext cx="7848720" cy="4267440"/>
        </p:xfrm>
        <a:graphic>
          <a:graphicData uri="http://schemas.openxmlformats.org/drawingml/2006/table">
            <a:tbl>
              <a:tblPr/>
              <a:tblGrid>
                <a:gridCol w="2975040"/>
                <a:gridCol w="1968480"/>
                <a:gridCol w="2905200"/>
              </a:tblGrid>
              <a:tr h="328680"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Sugerencia para proporción de adulto/niñ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55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# de Voluntarios Adult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# de Niñ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Edades de Niñ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Menos de 24 mes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25 to 35 mes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36 meses a 5 añ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6 a 9 añ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9 a 12 añ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13 a 16 añ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4240">
                <a:tc gridSpan="3">
                  <a:txBody>
                    <a:bodyPr lIns="68760" rIns="68760" tIns="0" bIns="0" anchor="t">
                      <a:noAutofit/>
                    </a:bodyPr>
                    <a:p>
                      <a:pPr marL="285840" indent="-2858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*2-3 Voluntarios adicionales para asistir con el monitoreo de seguridad y para ayudar a niños con necesidades especiales, comidas, et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533520" y="21333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s-MX" sz="2200" spc="-1" strike="noStrike">
                <a:solidFill>
                  <a:srgbClr val="000000"/>
                </a:solidFill>
                <a:latin typeface="Constantia"/>
              </a:rPr>
              <a:t>Si van a haber niños quedándose a dormir en el centro de refugio por las noches, va a ser necesario que un voluntario adulto se encargue del turno de noche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259200" indent="-2592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Siempre y cuando </a:t>
            </a:r>
            <a:r>
              <a:rPr b="0" lang="es-MX" sz="19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haya varios niños durmiendo en la misma habitación,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de</a:t>
            </a:r>
            <a:r>
              <a:rPr b="0" lang="es-MX" sz="22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bería de haber un mínimo de dos voluntarios despiertos por la noche para proveer mejor seguridad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onstantia"/>
              </a:rPr>
              <a:t>Si hay niños durmiendo en varias habitaciones, se van a necesitar más voluntarios. Por ejemplo, debería de haber el mínimo de un voluntario despierto a toda hora en cada habitación donde hay niños durmiendo. Nota: Estos voluntarios son adicionales a los dos voluntarios encargados del turno de noche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51920" y="53316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alibri"/>
              </a:rPr>
              <a:t>Voluntarios—Necesidades Adicionales</a:t>
            </a:r>
            <a:endParaRPr b="0" lang="en-US" sz="43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Provea orientación sobre los reglamentos de seguridad del centro de refugi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Desarrolle un plan general de todo lo que se tiene que hacer en caso de emergenci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Repase/entrene a individuos para que estén conscientes de su función como voluntari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Enfatice las necesidades de seguridad, además de las necesidades de protección de los niño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alibri"/>
              </a:rPr>
              <a:t>Preparando a los voluntari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Repase/entrene a los voluntarios a reconocer y proveer por las necesidades básicas, físicas, y emocionales de los niño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Repase/entrene a los voluntarios a entrevistar a los padres de familia, con el propósito de recolectar información de contacto, además de datos básicos de cada niño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Repase/entrene a los voluntarios a tratar con situaciones de angustia y conducta disruptiva, ya sea de padres y/o niño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n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alibri"/>
              </a:rPr>
              <a:t>Preparando a los voluntari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Registro de niño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Asista a los padres a llenar los formularios de datos (Ver ejemplar de Formulario de Asesoramiento)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Apunte la información de contacto/emergencia de los padres de familia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Designe a alguien a tomar fotos (niños, padres de familia, parientes)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Organice tablas de información familiar (cuando posible, una tabla por cada niño</a:t>
            </a:r>
            <a:r>
              <a:rPr b="0" lang="en-US" sz="19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-238680">
              <a:lnSpc>
                <a:spcPct val="9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nstantia"/>
              </a:rPr>
              <a:t>Saber quién puede visitar y recoger al niño del centr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-238680">
              <a:lnSpc>
                <a:spcPct val="9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nstantia"/>
              </a:rPr>
              <a:t>Poner de muestra en un lugar visible para asegurar a los niños, además de facilitar su acceso a los voluntario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alibri"/>
              </a:rPr>
              <a:t>El centro de refugio en operación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nstantia"/>
              </a:rPr>
              <a:t>Guías generales para trabajar con niños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El niño puede estar aturdido, en estado de shock, o estar sintiendo algún nivel de falta de asociación que puede empeorar si no se le protege del estímulo que causó la experiencia traumátic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0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Donde posible, dirija a los niños a un lugar lejos del desastre y de personas que han sobrevivido pero que están lastimada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0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Use palabras bondadosas pero firmes para dar instruccione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alibri"/>
              </a:rPr>
              <a:t>Trabajando con los Niñ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lvl="1" marL="601200" indent="-231120">
              <a:lnSpc>
                <a:spcPct val="100000"/>
              </a:lnSpc>
              <a:spcBef>
                <a:spcPts val="34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-Conéctarse con personas familiare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2" marL="859320" indent="-231120">
              <a:spcBef>
                <a:spcPts val="3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onstantia"/>
              </a:rPr>
              <a:t>Conéctese con padres de familia y/o parientes en intervalos regulare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2" marL="859320" indent="-231120">
              <a:spcBef>
                <a:spcPts val="3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onstantia"/>
              </a:rPr>
              <a:t>Provea información correcta  sobre el estado de sus familias, en intervalos regulares, cuando el niño lo pida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lnSpc>
                <a:spcPct val="100000"/>
              </a:lnSpc>
              <a:spcBef>
                <a:spcPts val="34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-Apoyar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2" marL="859320" indent="-231120">
              <a:spcBef>
                <a:spcPts val="3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onstantia"/>
              </a:rPr>
              <a:t>Ofrezca apoyo, sea compasivo y bondadoso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2" marL="859320" indent="-231120">
              <a:spcBef>
                <a:spcPts val="3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onstantia"/>
              </a:rPr>
              <a:t>Aprenda y use el nombre de los niños, especialmente cuando uno se dirige a ello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2" marL="859320" indent="-231120">
              <a:spcBef>
                <a:spcPts val="3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onstantia"/>
              </a:rPr>
              <a:t>Use comunicación sin prejuicios, ya sea verbal o no verbalmente, con el niño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2" marL="859320" indent="-231120">
              <a:spcBef>
                <a:spcPts val="3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onstantia"/>
              </a:rPr>
              <a:t>No importa la duración de su estadía, el uso de herramientas terapéuticas le ayuda al niño a reconectar  y reducir el nivel de su angustia causado por su pérdida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lnSpc>
                <a:spcPct val="100000"/>
              </a:lnSpc>
              <a:spcBef>
                <a:spcPts val="34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-Triaje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2" marL="859320" indent="-231120">
              <a:spcBef>
                <a:spcPts val="3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onstantia"/>
              </a:rPr>
              <a:t>Observe las necesidades físicas y emocionales (ver los materiales de asesoramiento proveídos en la próxima sesión)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2" marL="859320" indent="-231120">
              <a:spcBef>
                <a:spcPts val="3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onstantia"/>
              </a:rPr>
              <a:t>Haga triaje con médicos y profesionales de salud mental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3" marL="1116000" indent="-196920">
              <a:spcBef>
                <a:spcPts val="3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onstantia"/>
              </a:rPr>
              <a:t>En términos de local y de protocolo para visitas entre niños y profesionales, arreglos deberán hacerse por avanzado (eg., en el hospital o en un local de emergencia médica)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alibri"/>
              </a:rPr>
              <a:t>Trabajando con los Niños—cont.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Title 3" descr=""/>
          <p:cNvPicPr/>
          <p:nvPr/>
        </p:nvPicPr>
        <p:blipFill>
          <a:blip r:embed="rId1"/>
          <a:stretch/>
        </p:blipFill>
        <p:spPr>
          <a:xfrm>
            <a:off x="523800" y="1311120"/>
            <a:ext cx="7785000" cy="14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alibri"/>
              </a:rPr>
              <a:t>Visión general: Creando un Ambiente Seguro para su Niño Después de un  Desastre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236232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Después de un desastre todo niño necesita estar en un lugar seguro, lejos del peligro y de otras experiencias que le puedan causar más angustia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Los padres y guardianes necesitan tener acceso a un lugar donde puedan dejar a sus niños mientras que ellos consiguen trabajo, encuentran vivienda segura, procuran comida, agua, etc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Para poder desarrollar un ambiente seguro se requiere planificación, además de consideración de las necesidades de los niños después de un desastre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457200" y="21333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</a:rPr>
              <a:t>Estableciendo un medio ambiente seguro para sus niños requiere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Protección- establecer una zona/ un centro de refugio seguro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Dirección- guiar a otros a  áreas lejos del desastr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Conexión- estar en contacto con padres y parientes en  intervalos regular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Apoyo- proveer un medio ambiente seguro  (</a:t>
            </a:r>
            <a:r>
              <a:rPr b="0" i="1" lang="es-MX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2da sesión</a:t>
            </a:r>
            <a:r>
              <a:rPr b="0" lang="es-MX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Triaje- asesorar de manera general las necesidades físicas y emocionales, haciendo triaje con profesionales avanzados cuando apropiado (</a:t>
            </a:r>
            <a:r>
              <a:rPr b="0" i="1" lang="es-MX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2da sesión</a:t>
            </a:r>
            <a:r>
              <a:rPr b="0" lang="es-MX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alibri"/>
              </a:rPr>
              <a:t>Visión general: Creando un Ambiente Seguro para su Niño Después de un  Desastre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457200" y="1752120"/>
            <a:ext cx="822960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53440" indent="-253440"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La preparación es clave: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- Conozca su comunidad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-</a:t>
            </a:r>
            <a:r>
              <a:rPr b="0" lang="es-MX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 Considere cuántos locales se van a necesitar, eg., los suficientes para tratar a los niños de la comunidad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-</a:t>
            </a:r>
            <a:r>
              <a:rPr b="0" lang="es-MX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 Trabaje con otras iglesias y grupos comunitarios para establecer un plan de cómo crear y tener listos centros de refugios múltipl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850320" indent="-228960"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</a:rPr>
              <a:t>Proveen más acceso en los vecindarios (eg. la distancia entre vecindarios tomando en cuenta transporte limitado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850320" indent="-228960"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</a:rPr>
              <a:t>Permiten el encuentro de grupos pequeños para niños del vecindario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850320" indent="-228960"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</a:rPr>
              <a:t>Proveen mas familiaridad que un local donde los niños no se conoce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500" spc="-1" strike="noStrike">
                <a:solidFill>
                  <a:srgbClr val="ffffff"/>
                </a:solidFill>
                <a:latin typeface="Calibri"/>
              </a:rPr>
              <a:t>Protección- establecer una zona/ un centro de refugio seguro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Identificando sitios/locales alternativos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El local alternativo provee mejor preparación ya que uno nunca sabe cuándo va a suceder un desastre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Identifique diferentes locales comunitarios (Iglesias, escuelas, centros comunitarios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Identifique aéreas abiertas donde centros de refugios temporarios puedan ser instalado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500" spc="-1" strike="noStrike">
                <a:solidFill>
                  <a:srgbClr val="ffffff"/>
                </a:solidFill>
                <a:latin typeface="Calibri"/>
              </a:rPr>
              <a:t>Localizando los mejores sitios para las Zonas de Seguridad para Niño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457200" y="22093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Visite cada local alternativ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00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Explore para determinar si existen problemas de seguridad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00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00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Evite locales donde se encuentre posible peligro (eg., zonas de construcción peligrosas, la exposición de toxinas, agua profunda, lugares donde se pueda caer un niño, animales, otros elementos peligrosos, etc.)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00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Todos los sitios seleccionados tienen que tener manera de ser asegurados (eg., protección contra intrusos, individuos depredadores que buscan abusar o explotar a niños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00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Todos los sitios deben ser accesibles (eg., proximidad a facilidades médicas y otros recursos, acceso a transporte público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nstantia"/>
              </a:rPr>
              <a:t>Tenga un acuerdo por adelantado que detalle la disponibilidad del local en situaciones de emergencia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500" spc="-1" strike="noStrike">
                <a:solidFill>
                  <a:srgbClr val="ffffff"/>
                </a:solidFill>
                <a:latin typeface="Calibri"/>
              </a:rPr>
              <a:t>Localizando los mejores sitios para las Zonas de Seguridad para Niño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38088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Identifique una bodega para almacenar suministros (idealmente en el mismo local que va a ser utilizado como centro de refugio/zona de segurida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Suministros de emergencia (eg., agua, primeros auxilios, lámpara de mano, baterías, radio, etc.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Comida/bocadillos (7-10 días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Platos, vasos, cucharas, tenedores, toallas de papel, etc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Cobija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Pañal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Productos de higiene personal para adolescentes (jabón de baño, cepillo de dientes, pasta de dientes, desodorante, higiene femenina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Lupa o lentes para niños con problemas de visió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Ropa (diferentes tamaños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500" spc="-1" strike="noStrike">
                <a:solidFill>
                  <a:srgbClr val="ffffff"/>
                </a:solidFill>
                <a:latin typeface="Calibri"/>
              </a:rPr>
              <a:t>Identificando y asegurando suministros por avanzado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Útiles escolares (papel, lápices, plumas, tiza, colores para pintar, etc.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Juguetes (considere darle a cada niño su propio juguete cuando lleguen al centro de refugio—un juguete que se puedan llevar cuando se vayan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Juegos de mesa (para diferentes edades, incluyendo adolescentes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Materiales de arte (papel, pinturas de agua, pinceles, tijeras, pegamento, etc.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Libros (para diferentes edades, incluyendo adolescentes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Productos de limpieza (jabón, detergente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Cámara (la habilidad de crear y mostrar fotos instantáneas de los niños y sus familias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Teléfono (considere otros medios de contacto que no requieran el uso de electricidad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alibri"/>
              </a:rPr>
              <a:t>Suministros cont.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Elabore reglamentos para el centro de refugio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-</a:t>
            </a: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Ejemplos de pautas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-233640">
              <a:lnSpc>
                <a:spcPct val="8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nstantia"/>
              </a:rPr>
              <a:t>Nadie, con la excepción del adulto designado/aprobado, es permitido llevarse al niño del centro de refugi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-233640">
              <a:lnSpc>
                <a:spcPct val="8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nstantia"/>
              </a:rPr>
              <a:t>Solamente los individuos con acceso autorizado son permitidos en la Zona de Seguridad para Niño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-233640">
              <a:lnSpc>
                <a:spcPct val="8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nstantia"/>
              </a:rPr>
              <a:t>Los padres de familia tienen que llenar formularios de datos antes de dejar a sus niños en el centro de refugi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-233640">
              <a:lnSpc>
                <a:spcPct val="8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nstantia"/>
              </a:rPr>
              <a:t>Ambos, los padres de familia y sus niños tienen que tomarse fotos al registrars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-233640">
              <a:lnSpc>
                <a:spcPct val="8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nstantia"/>
              </a:rPr>
              <a:t>Los voluntarios tienen que estar pendientes de los niños bajo su cargo en todo moment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-233640">
              <a:lnSpc>
                <a:spcPct val="8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nstantia"/>
              </a:rPr>
              <a:t>La comunicación debe ser positiva y debe reducir conflicto y angustia, en todo momento, entre padres de familia, niños, y voluntario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-233640">
              <a:lnSpc>
                <a:spcPct val="8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nstantia"/>
              </a:rPr>
              <a:t>Los padres de familia y parientes aprobados deben registrarse en el centro de refugio antes de poder entrar a proveerle asistencia y comodidad a sus niño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alibri"/>
              </a:rPr>
              <a:t>Lineamientos/Reglament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02T01:37:54Z</dcterms:created>
  <dc:creator>Carol</dc:creator>
  <dc:description/>
  <dc:language>en-US</dc:language>
  <cp:lastModifiedBy>Jeminaeh</cp:lastModifiedBy>
  <dcterms:modified xsi:type="dcterms:W3CDTF">2012-07-10T03:46:38Z</dcterms:modified>
  <cp:revision>69</cp:revision>
  <dc:subject/>
  <dc:title>Creating Child Safe Environments After a Disaster</dc:title>
</cp:coreProperties>
</file>